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073-34F2-4DBA-8967-F7D60CD0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693-DEB3-44BD-8F69-A6747010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25F-8FAC-43CA-8D2B-9CCDA5DA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251-A1DC-47AD-B5CD-F8E9C08E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9DFB-AF6C-4262-9899-75989759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134E-6A4C-40BC-A0BA-DB1714E8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E3F2-A56B-492F-8D9E-ECE872A6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EF7A-8F72-4413-B5F2-7FA2D550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8429-520C-4BB0-8991-3AFDCAEF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20DC-C0C7-4033-8B26-BEB287A5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E640-23EE-4125-9531-4F057C7A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684-1699-452C-93E2-3A7F6A50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05DC-6274-4ECB-B143-A819F24F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5E2D-C720-47EF-BB6E-B33B106A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B861-68B3-4EFE-8B41-84A65F45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FE70-5FB9-4517-9D38-96B91254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7106-B13B-4517-AEC5-E6BFD984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0CE0C-30EE-4D26-8F04-F2BAA343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EE43-F348-42F9-91EC-2B3616D9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BAC0-0150-45D4-A4F8-C8F0269E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03EB-200D-4DC1-BE9D-914CFAD1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9A09-DD86-4AC8-B123-05015E6C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BC2-B14D-41BF-B231-2405791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8E4E-6ABE-4704-9A70-7AF8FC12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722A-6A32-498B-AA00-5CAF01F0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642F6-C879-480F-AA3F-E44E98EF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C113-546D-4DE1-8E30-596199C8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F6E95-2325-4D7F-AF96-43C8B7B5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E09A-32DC-4DF8-BAFB-A9E29AAA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A77E-25FE-457B-9B1A-5590F9A4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C3AC-949A-4DE4-B770-360BBF36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88DD2-698F-43EE-8FF4-08AE9D29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97141-34B6-4920-AC4B-35CFBB02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6EA-18F1-4EEC-8AF5-07F83B6C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30DF4-ADF1-4C24-A498-3E04D42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62C65-28F4-4A24-9BB4-B56590CC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87EA9-B500-4F73-B1F7-AFA976D0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D540-1E14-4002-B5DC-A46F2C54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E6C3-0ABC-4BB1-9A39-AB19F25F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BAE37-5C4A-4543-B79A-069FB5F5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2C591-20BC-42FB-9833-EE5DE7AB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DB2E-390A-42C5-91DC-8FFBC022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7E397-8A69-446F-A751-CD20522F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5E4B6-ACAF-45AD-B9BD-14CD7627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EA7-4315-49F2-974C-5B187ECE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1834-271B-4B4D-9150-9E75CAB0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E7760-44E3-496F-8A88-0C8212CF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69462-E2CC-43BB-86BC-3717F8D8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E4367-14AD-40BF-B925-F359790E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E2488-054F-428E-B7E9-A3A51785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9643-F6D3-495F-811B-0A4EF7B0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6D504-B3FC-4A6E-BB71-2F9FA054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33975-2619-4D8C-9CD3-F5DA7EC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5F50F-4975-4430-9353-F36CDDE6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23B6D-8FF1-4F88-ADB8-3DB91AA8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A30-F6A8-4F9F-A252-3BD5BFD6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6037-43BF-4D47-8A49-4997CA91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DE3F-4548-43A1-8F3F-4BD63F3A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5F18-10C6-4A20-9823-090FF043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C8D3B-481F-4BA1-9C8E-8BD6B492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6378F-10D6-4BDF-99DE-BED67D67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04088-1ACD-4588-88EB-7B4AABAB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523C6-831A-431C-80BD-EE71C77D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7BD1A-5221-48EC-9FE4-16DEDE76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7D786-072E-4FC9-AB7E-1102D404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67ED1-E82E-492C-AA5E-69042CC7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9DF-E468-4211-B0F5-CB527852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A539-C74C-4E61-AC72-A18C597F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1E89B-19BB-4BF0-842A-A5D87239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BEB67-0F46-46CB-B15E-FCA18355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50175-DAF7-4C3B-817A-4076A462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75BE6-1A22-49A2-82E7-4F0291DF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5CF9-983F-48B0-A1DF-364EB1EA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4E936-53DE-498B-B45C-23922DB0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92EEC-34AE-4B27-815F-3CF45AB0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817C9-F50F-4A73-A192-79B36879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E1090-76A2-41DB-96E1-BCF6338F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ABF-633C-4FBC-8A1E-74EFE20A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65082-5349-4D2A-9233-6FBADC6F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299AE-6EEC-47F3-B2D6-BCB5418F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F8B07-DFE1-464C-861E-4D520B69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642C1-3CE0-4C9B-A85C-16A3BE24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0C44D-30F7-4A48-B130-B21CB600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6B7-11AC-454F-BFE3-233291AC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/>
            <a:ahLst/>
            <a:rect l="l" t="t" r="r" b="b"/>
            <a:pathLst>
              <a:path w="2184401" h="1638300">
                <a:moveTo>
                  <a:pt x="2184401" y="819150"/>
                </a:moveTo>
                <a:cubicBezTo>
                  <a:pt x="2184401" y="1077069"/>
                  <a:pt x="2022436" y="1319925"/>
                  <a:pt x="1747262" y="1474616"/>
                </a:cubicBezTo>
                <a:cubicBezTo>
                  <a:pt x="1558115" y="1580946"/>
                  <a:pt x="1328077" y="1638382"/>
                  <a:pt x="1091695" y="1638300"/>
                </a:cubicBezTo>
                <a:cubicBezTo>
                  <a:pt x="1091864" y="1365250"/>
                  <a:pt x="1092032" y="1092200"/>
                  <a:pt x="1092201" y="819150"/>
                </a:cubicBezTo>
                <a:lnTo>
                  <a:pt x="21844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8440" y="963720"/>
            <a:ext cx="1397160" cy="1309680"/>
            <a:chOff x="298440" y="963720"/>
            <a:chExt cx="1397160" cy="130968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8440" y="963720"/>
              <a:ext cx="1397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7A8E-4E9F-4EB4-9025-F648BCA4CC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/>
            <a:ahLst/>
            <a:rect l="l" t="t" r="r" b="b"/>
            <a:pathLst>
              <a:path w="2184401" h="1638300">
                <a:moveTo>
                  <a:pt x="2184401" y="819150"/>
                </a:moveTo>
                <a:cubicBezTo>
                  <a:pt x="2184401" y="1077069"/>
                  <a:pt x="2022436" y="1319925"/>
                  <a:pt x="1747262" y="1474616"/>
                </a:cubicBezTo>
                <a:cubicBezTo>
                  <a:pt x="1558115" y="1580946"/>
                  <a:pt x="1328077" y="1638382"/>
                  <a:pt x="1091695" y="1638300"/>
                </a:cubicBezTo>
                <a:cubicBezTo>
                  <a:pt x="1091864" y="1365250"/>
                  <a:pt x="1092032" y="1092200"/>
                  <a:pt x="1092201" y="819150"/>
                </a:cubicBezTo>
                <a:lnTo>
                  <a:pt x="21844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8440" y="963720"/>
            <a:ext cx="1397160" cy="1309680"/>
            <a:chOff x="298440" y="963720"/>
            <a:chExt cx="1397160" cy="130968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8440" y="963720"/>
              <a:ext cx="1397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31920" y="1414440"/>
            <a:ext cx="285840" cy="212760"/>
            <a:chOff x="1231920" y="1414440"/>
            <a:chExt cx="28584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31920" y="1414440"/>
              <a:ext cx="285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09E5-52D8-4C92-A827-97FD07BBB0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95480" y="2816280"/>
            <a:ext cx="285840" cy="212760"/>
            <a:chOff x="2895480" y="2816280"/>
            <a:chExt cx="2858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95480" y="2816280"/>
              <a:ext cx="285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9C00-F188-41BD-ABAE-DB016AA4BB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0974-CFE0-4C71-964D-08D8E75836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541D-32E0-4D6D-9420-5F3E01E590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B103-9F9C-46CC-ACFC-2CF6DC81BF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7920" y="974880"/>
            <a:ext cx="6321600" cy="4797360"/>
            <a:chOff x="907920" y="974880"/>
            <a:chExt cx="632160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7920" y="974880"/>
              <a:ext cx="632160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E271-51D3-4D13-A371-1B7178124A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esh.edu.ru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20600" y="504720"/>
            <a:ext cx="10024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Использование портала «Российская электронная школа» </a:t>
            </a:r>
            <a:br>
              <a:rPr sz="4800"/>
            </a:b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в процессе обучения школьников.  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056360" y="5181120"/>
            <a:ext cx="4965840" cy="1389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дготовила: учитель обществозна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КОУ Новоуспенской СОШ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урочкина Светлана Ивановн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4359240" y="23652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успен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http://xn----7sbbfp4acilcibgh3ad3a2h5f.xn----7sbadc4eir.xn--p1ai/wp-content/uploads/2018/12/header-1.jpg"/>
          <p:cNvPicPr/>
          <p:nvPr/>
        </p:nvPicPr>
        <p:blipFill>
          <a:blip r:embed="rId1"/>
          <a:srcRect l="54279" t="0" r="0" b="0"/>
          <a:stretch/>
        </p:blipFill>
        <p:spPr>
          <a:xfrm>
            <a:off x="0" y="0"/>
            <a:ext cx="40226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10018800" cy="26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ля подтверждения привязки ученика необходимо зайти в раздел «Ученики» в таблице «Список всех привязанных учеников» выделить соответствующих учеников в статусе «Ожидается подтверждение» и нажать кнопку «Подтвердить»</a:t>
            </a:r>
            <a:br>
              <a:rPr sz="3900"/>
            </a:b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Объект 4" descr=""/>
          <p:cNvPicPr/>
          <p:nvPr/>
        </p:nvPicPr>
        <p:blipFill>
          <a:blip r:embed="rId1"/>
          <a:stretch/>
        </p:blipFill>
        <p:spPr>
          <a:xfrm>
            <a:off x="1484280" y="1639800"/>
            <a:ext cx="90378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591400" y="-360"/>
            <a:ext cx="37245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здел «Задания» позволяет назначать привязанным ученикам задани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Объект 3" descr=""/>
          <p:cNvPicPr/>
          <p:nvPr/>
        </p:nvPicPr>
        <p:blipFill>
          <a:blip r:embed="rId1"/>
          <a:stretch/>
        </p:blipFill>
        <p:spPr>
          <a:xfrm>
            <a:off x="372960" y="101520"/>
            <a:ext cx="8093160" cy="66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-39600"/>
            <a:ext cx="121921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168120" y="54000"/>
            <a:ext cx="11871360" cy="66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122400" y="28440"/>
            <a:ext cx="12069720" cy="672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82520" y="61920"/>
            <a:ext cx="12009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0" y="-39600"/>
            <a:ext cx="12023640" cy="67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06200" y="19080"/>
            <a:ext cx="1208592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5080" y="880920"/>
            <a:ext cx="1036296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Российская электронная школа» (РЭШ) - это полный школьный курс уроков от лучших учителей России; это информационно-образовательная среда, объединяющая ученика, учителя, родителя и открывающая равный доступ к качественному общему образованию независимо от социокультурных условий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046400" y="4436640"/>
            <a:ext cx="8686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сайт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https://resh.edu.ru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670040" y="361800"/>
            <a:ext cx="9980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юсы «РЭШ»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общий критический настрой по отношению к этой системе в среде учителей, нужно признать, что работа по проекту была проведена довольно большая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На сегодняшний день уже снято и опубликовано огромное количество 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-уроков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 всем областям школьных знаний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се они распределены по предметам и классам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Каждый урок снабжен определенным количеством дополнительных материалов, краткими конспектами, а так же проверочными и контрольными работами по каждой теме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удя по всему разработчики так же планируют встроить в систему комплексы материалов для промежуточного контроля знаний и подготовки к написанию ВПР и ЕГЭ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2a6d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2a6d7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80760" y="293400"/>
            <a:ext cx="9921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инусы «РЭШ»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534680" y="825120"/>
            <a:ext cx="9983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мнению многих учителей не обходится, конечно, и без ляпов, неточностей и некорректно поставленных вопросов в заданиях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можна постепенная подмена авторитета живого учителя, нужными установками из уст «электронного ретранслятора»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атформа часто подвисает из-за перегруженности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a6d7d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95320" y="123480"/>
            <a:ext cx="970776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м случае, сегодня каждый учитель может использовать накопленные здесь материалы для подготовки и проведения своих урок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0" y="-39600"/>
            <a:ext cx="121921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65440" y="774360"/>
            <a:ext cx="1023624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ЭШ учителю</a:t>
            </a:r>
            <a:br>
              <a:rPr sz="4900"/>
            </a:br>
            <a:br>
              <a:rPr sz="1800"/>
            </a:b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нтерактивные уроки включают:</a:t>
            </a:r>
            <a:br>
              <a:rPr sz="25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короткий видеоролик с лекцией учителя,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задачи и упражнения для закрепления полученных знаний и отработки навыков,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- проверочные задания для контроля усвоения материала.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пражнения и задачи можно проходить неограниченное количество раз, они не предполагают оценивания и уж тем более фиксации оценок.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верочные задания, </a:t>
            </a: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апротив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, не подразумевают повторного прохождения – система фиксирует результаты их выполнения </a:t>
            </a: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регистрированными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пользователями и на этой основе формируется статистика успеваемости ученика.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держание дидактических и методических материалов полностью соответствует ФГОС и примерным основным образовательным программам начального общего, основного общего, среднего общего образования, что подтверждается результатами независимой экспертизы</a:t>
            </a: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. </a:t>
            </a:r>
            <a:br>
              <a:rPr sz="2500"/>
            </a:br>
            <a:br>
              <a:rPr sz="1800"/>
            </a:br>
            <a:br>
              <a:rPr sz="18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778040" y="317160"/>
            <a:ext cx="980424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ролики с лекциями учителей дополняютс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2a6d7d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ями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2a6d7d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ами из документальных и художественных фильмов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2a6d7d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файлами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2a6d7d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ями архивных документов и т.п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2a6d7d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материалы к урокам предоставлены партнёрами «Российской электронной школы» и доступн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льк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регистрированным пользователя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ы найдёте рабочую программу по каждому предмету, конспекты уроков, упражнения и проверочные задания по теме. Предлагаемые лабораторные работы позволят продемонстрировать, как на практике работают те законы, о которых вы рассказываете в классе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08600" y="-360"/>
            <a:ext cx="458316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. </a:t>
            </a: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вторизация / Регистрация пользователя</a:t>
            </a:r>
            <a:br>
              <a:rPr sz="39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верхнем правом углу нажмите «Вход», если Вы регистрировались ранее, либо пройдите процедуру регистрации по ссылке «Регистрация».</a:t>
            </a:r>
            <a:br>
              <a:rPr sz="39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Объект 2"/>
          <p:cNvSpPr/>
          <p:nvPr/>
        </p:nvSpPr>
        <p:spPr>
          <a:xfrm>
            <a:off x="7608960" y="2417760"/>
            <a:ext cx="458316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гистрации на портале РЭШ обязательно укажите Вашу роль (ученик/родитель/учитель), фамилию и имя, адрес электронной почты, дату рождения, придумайте пароль. Также необходимо указать место проживания и Вашу образовательную организацию (школу). В случае отсутствия Вашей образовательной организации в списке, необходимо обратиться с соответствующим запросом в службу поддержки, нажав кнопку «Добавить образовательную организаци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6" descr=""/>
          <p:cNvPicPr/>
          <p:nvPr/>
        </p:nvPicPr>
        <p:blipFill>
          <a:blip r:embed="rId1"/>
          <a:stretch/>
        </p:blipFill>
        <p:spPr>
          <a:xfrm>
            <a:off x="139680" y="673200"/>
            <a:ext cx="74692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135000"/>
            <a:ext cx="1194768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1240920"/>
            <a:ext cx="99792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и нажатии кнопки «Пригласить учеников» Система сформирует ссылку, по который нужно пройти зарегистрированным на портале ученикам. После прохождения учениками по ссылке, в разделе «Уведомления» появится соответствующее сообщение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Объект 3" descr=""/>
          <p:cNvPicPr/>
          <p:nvPr/>
        </p:nvPicPr>
        <p:blipFill>
          <a:blip r:embed="rId1"/>
          <a:stretch/>
        </p:blipFill>
        <p:spPr>
          <a:xfrm>
            <a:off x="3344760" y="4084560"/>
            <a:ext cx="60087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14:19:05Z</dcterms:created>
  <dc:creator>Пользователь</dc:creator>
  <dc:description/>
  <dc:language>en-US</dc:language>
  <cp:lastModifiedBy>Ученик1</cp:lastModifiedBy>
  <dcterms:modified xsi:type="dcterms:W3CDTF">2022-04-08T05:08:49Z</dcterms:modified>
  <cp:revision>19</cp:revision>
  <dc:subject/>
  <dc:title>Использование портала «Российская электронная школа»  в процессе дистанционного обучения школьников.</dc:title>
</cp:coreProperties>
</file>