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6FE1-8AB8-4E50-A646-0934D4EEC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7C7D-88FB-4D2E-96B0-A832A823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1174C-873D-40FF-A03D-79BE6BA2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A1AB5-2D2E-4804-97DC-C1A00355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9BA73C-5C4E-48B0-9849-4DF835BC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C3F88-49B6-4401-9E6A-D63C6B49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51C58-8507-4825-9147-5125A2F2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609051-31E5-47BA-B1FA-CA247F75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83AC92-AE36-417A-B91A-8AB30354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CC0064-DF36-428D-99CB-F4AFA38F0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50461-2D88-4441-9EA8-1CD953C25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3DE7-A398-420C-9E88-02F1482B3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7E14-69AA-4234-A255-E614B2236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7078-2E23-4341-9650-3DB16FD50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103B-0C1D-4E4F-8883-708ABB30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5443-98AE-484B-A4CC-79A0EC18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1229-5AEB-4B72-A7A4-E8BB41CE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F2A7-59B6-40A1-9EC3-6C5D6E24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D81A-034C-4A1E-AA26-B157A518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B613-1410-4E1C-9031-20D67036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BF87-926E-4F32-A0C1-B2758FC9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32AC-3BB8-49DE-92C8-2FE75BD7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FF53-0F5F-4B4B-B002-3C4E066A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B583-7E4B-4338-968F-1F9B5B05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A4DB-BF07-49AE-A659-3D16F3E1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B82E-C66A-4DBD-99E9-749135C01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A3310-E71E-4A22-A650-717F08A06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5ADE0-7D2A-4946-9504-436BD2D2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95516-9D52-4B73-9482-1C2098A4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37C62-E433-4714-9936-38109F97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925CE-DAF8-4A52-AB67-C9DC2B94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44EB-53B0-4A36-A3C7-3C5AE6AA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70E31-AA24-458F-BA91-0EEE6A08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1FA3A-7C63-48C5-ADBA-08EC7E85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06A62-E7AE-4999-A8FA-368DBDCC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7CA45-013D-4BF4-AC0D-5E1A7E09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22E7E-8E26-49D5-BA04-5D48D27F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3FDB0-54E6-4AF1-8D7C-EE805102F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7AC38-EFDE-47EA-8C25-FDCFA44C1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40BA8-B7F8-4ACF-A346-006B8CDA4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4FE2E-C75A-41FF-B704-B1D2E23A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7015A-3919-4E6E-940A-2BCBFC93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5BEE-745A-4750-AF5E-070F19AB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005F8-4972-4900-99C8-31D21B42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19107-FB29-4CE6-8A0A-97A698F0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4AA1A-D65B-4CD7-B03C-C9888B82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8C02D-02EF-4AC1-A959-4571E055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E5147-B20A-4ACD-B7A0-55DBC822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61C3F-4777-4556-A277-6FB3D42B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0529E-4BE0-4380-B3A0-D6BA5646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318BB-4573-447A-BE03-E3666DF9D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C3730-7613-4C70-8647-0DED3F3E0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92718-4269-499C-8912-6562891FD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B2DA-1FD0-46BE-88B1-1CAE7A39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7824B-5F88-4907-B94E-510FAD89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5F7C8-B9A7-48F1-85EF-73046F0E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95A3B-379F-4686-AEEA-1DD169D2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E01DA-DB87-449B-BCCB-1FA81DC0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2680B-599E-47C3-A003-CDC90C1E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43301-5BB9-4397-8484-9C4E9DAD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8AE69-7B70-4B10-85ED-D081C1F9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28DC5-3EC0-4BEE-BD46-E9C56DB3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F4869-39F7-432D-9436-0376B527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5312A-53BE-4815-9000-0CD0C5F65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D0B3-C967-4234-9844-DAA87224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4B33F-9396-4261-B6C1-DC4664E8B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066F4-D37A-441C-843E-1A7E23B8A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F234C-78BF-4567-B8B4-2B40948F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92098-D269-4E4D-867B-DA90447E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A9F5F-0703-45FD-89E7-DD0213A3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2CE47-9D4F-4951-B17E-5A86EDF1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D6BE9-D8E0-4A76-A1A6-92FCAC2E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B8FBE-3872-4E57-AD71-6BF18F43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9D7E6-69E8-47AE-8672-E0BFA793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FF991-9A2F-43EE-A1C7-E83481CC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05E0-A4A5-48AC-8228-D8B8968B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0A5F4-485E-4294-BEC2-23FA1566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24DA9-7E7F-459B-A8DD-AA1057CF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1B10E-1A17-40F4-96F9-1BDEB41F7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F5EEC-DDD2-45EC-9649-795E4CD18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234FF-FFEC-4EC0-A6EB-CF04D404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06D6C-A92F-4393-884A-08ED2045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BB7F1-41C2-41CB-9B1D-87CD0CA3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76B63-3ABE-4D3A-8431-5AE82C29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4CCEC-86C5-4A5F-B785-306D698D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3D751-DB01-409A-A126-82197C14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57F7-7756-4846-A404-8988FBB7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7706D-740C-434B-A18C-771B8909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A298D-7236-4EE5-904E-F29359AD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7ABEF-937A-43B2-AC0D-6AD63016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B7CCC-7234-432A-9DAF-EC299F975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7AADE-818D-429C-BCAE-9F5C3E20A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9DEA4-E4FB-414A-8050-445611117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E91D1-84A5-463A-B186-1A2FA4F3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2CE9A-6B7A-40FE-94CA-22789E9C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03B47-112C-448E-987F-EF2695A7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48EB9-D5F1-46F6-BFDE-A19E8031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4E10-10B4-4F38-A3F7-3ADB983B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84783-0C30-44DE-ACBE-01375C2D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C20F2-B12C-4B01-A857-B49E7E95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1E3D5-85AC-4E6F-976C-40E22CF8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72075-D022-4DA1-A545-95801858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EF10E-1EDE-4EC3-8CED-C24DBF94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1D0E9-FD30-435D-8D76-521138879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788B3-F154-4AFF-BF43-382E7EB46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A14A5-09F5-4A16-A083-5C9AB442C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E210F-70AE-4A9D-8AE8-A751CB27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4431AC-EB00-40B0-B97B-6DAC2322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CD08-0C35-486C-8063-2BCFB20CB11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0A3B-4D8F-4F5F-98C2-D41BDC0386F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0716-6423-4FAB-9CA3-265E8206F10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7557-E0A4-42C3-B9EA-28E4A77908F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9C00-0D3E-4D4C-9B32-3315591867E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1C9B-F869-4D78-B506-6CACD0F9331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3560-66DB-4C67-8B95-97C282A10FC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1C1D-0482-42DB-9623-38E3DA2CFB7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CD72-F17D-46CF-A586-701984646A0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1835280" y="1627200"/>
            <a:ext cx="6662520" cy="41212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2298600" y="404280"/>
            <a:ext cx="540720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Новоуспенская СОШ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Подзаголовок 2"/>
          <p:cNvSpPr/>
          <p:nvPr/>
        </p:nvSpPr>
        <p:spPr>
          <a:xfrm>
            <a:off x="3924360" y="6066000"/>
            <a:ext cx="28083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2e1d13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1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6" descr="C:\МОЁ\school xtra_clear.gif"/>
          <p:cNvPicPr/>
          <p:nvPr/>
        </p:nvPicPr>
        <p:blipFill>
          <a:blip r:embed="rId2"/>
          <a:stretch/>
        </p:blipFill>
        <p:spPr>
          <a:xfrm>
            <a:off x="0" y="285840"/>
            <a:ext cx="2298600" cy="62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Прямоугольник 2"/>
          <p:cNvSpPr/>
          <p:nvPr/>
        </p:nvSpPr>
        <p:spPr>
          <a:xfrm>
            <a:off x="2843280" y="235080"/>
            <a:ext cx="3003480" cy="914400"/>
          </a:xfrm>
          <a:prstGeom prst="rect">
            <a:avLst/>
          </a:prstGeom>
          <a:gradFill rotWithShape="0">
            <a:gsLst>
              <a:gs pos="0">
                <a:srgbClr val="ffe4c3"/>
              </a:gs>
              <a:gs pos="100000">
                <a:srgbClr val="ffb52e"/>
              </a:gs>
            </a:gsLst>
            <a:lin ang="5400000"/>
          </a:gradFill>
          <a:ln w="10080">
            <a:solidFill>
              <a:srgbClr val="f0a22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евые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4"/>
          <p:cNvSpPr/>
          <p:nvPr/>
        </p:nvSpPr>
        <p:spPr>
          <a:xfrm>
            <a:off x="468360" y="1617840"/>
            <a:ext cx="3289320" cy="1152360"/>
          </a:xfrm>
          <a:prstGeom prst="rect">
            <a:avLst/>
          </a:prstGeom>
          <a:gradFill rotWithShape="0">
            <a:gsLst>
              <a:gs pos="0">
                <a:srgbClr val="ffe4c3"/>
              </a:gs>
              <a:gs pos="100000">
                <a:srgbClr val="ffb52e"/>
              </a:gs>
            </a:gsLst>
            <a:lin ang="5400000"/>
          </a:gradFill>
          <a:ln w="10080">
            <a:solidFill>
              <a:srgbClr val="f0a22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ат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ашивать окружение; консультироваться у педагога; получать информац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5"/>
          <p:cNvSpPr/>
          <p:nvPr/>
        </p:nvSpPr>
        <p:spPr>
          <a:xfrm>
            <a:off x="5062680" y="1670040"/>
            <a:ext cx="3651120" cy="1212840"/>
          </a:xfrm>
          <a:prstGeom prst="rect">
            <a:avLst/>
          </a:prstGeom>
          <a:gradFill rotWithShape="0">
            <a:gsLst>
              <a:gs pos="0">
                <a:srgbClr val="ffe4c3"/>
              </a:gs>
              <a:gs pos="100000">
                <a:srgbClr val="ffb52e"/>
              </a:gs>
            </a:gsLst>
            <a:lin ang="5400000"/>
          </a:gradFill>
          <a:ln w="10080">
            <a:solidFill>
              <a:srgbClr val="f0a22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ировать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новые технологии, информации и коммуникации; стойко противостоять трудностям; находить новые реш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6"/>
          <p:cNvSpPr/>
          <p:nvPr/>
        </p:nvSpPr>
        <p:spPr>
          <a:xfrm>
            <a:off x="4500720" y="4827600"/>
            <a:ext cx="4464000" cy="1955880"/>
          </a:xfrm>
          <a:prstGeom prst="rect">
            <a:avLst/>
          </a:prstGeom>
          <a:gradFill rotWithShape="0">
            <a:gsLst>
              <a:gs pos="0">
                <a:srgbClr val="ffe4c3"/>
              </a:gs>
              <a:gs pos="100000">
                <a:srgbClr val="ffb52e"/>
              </a:gs>
            </a:gsLst>
            <a:lin ang="5400000"/>
          </a:gradFill>
          <a:ln w="10080">
            <a:solidFill>
              <a:srgbClr val="f0a22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иматься за дел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ться в группу или коллектив и внести свой вклад; доказать солидарность; организовать свою работу; пользоваться вычислительны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оделирующими приборам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7"/>
          <p:cNvSpPr/>
          <p:nvPr/>
        </p:nvSpPr>
        <p:spPr>
          <a:xfrm>
            <a:off x="371520" y="3141720"/>
            <a:ext cx="8759880" cy="1582560"/>
          </a:xfrm>
          <a:prstGeom prst="rect">
            <a:avLst/>
          </a:prstGeom>
          <a:gradFill rotWithShape="0">
            <a:gsLst>
              <a:gs pos="0">
                <a:srgbClr val="ffe4c3"/>
              </a:gs>
              <a:gs pos="100000">
                <a:srgbClr val="ffb52e"/>
              </a:gs>
            </a:gsLst>
            <a:lin ang="5400000"/>
          </a:gradFill>
          <a:ln w="10080">
            <a:solidFill>
              <a:srgbClr val="f0a22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мат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авливать взаимосвязи между прошлыми и настоящими событиями; критически относиться к тому или иному высказыванию, предложению; уметь противостоять неуверенности и сложности; занимать позицию в дискуссиях и вырабатывать своѐ собственное мнение; оценивать социальные привычки, связанные со здоровьем, а также с окружающей средой; оценивать произведения искусства и литератур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8"/>
          <p:cNvSpPr/>
          <p:nvPr/>
        </p:nvSpPr>
        <p:spPr>
          <a:xfrm>
            <a:off x="60480" y="4948200"/>
            <a:ext cx="4105080" cy="1714680"/>
          </a:xfrm>
          <a:prstGeom prst="rect">
            <a:avLst/>
          </a:prstGeom>
          <a:gradFill rotWithShape="0">
            <a:gsLst>
              <a:gs pos="0">
                <a:srgbClr val="ffe4c3"/>
              </a:gs>
              <a:gs pos="100000">
                <a:srgbClr val="ffb52e"/>
              </a:gs>
            </a:gsLst>
            <a:lin ang="5400000"/>
          </a:gradFill>
          <a:ln w="10080">
            <a:solidFill>
              <a:srgbClr val="f0a22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рудничат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работать в группе; принимать решения; улаживать разногласия и конфликты; договариваться; разрабатывать и выполнять взятые на себя обязанност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1" name="Прямая со стрелкой 9"/>
          <p:cNvCxnSpPr/>
          <p:nvPr/>
        </p:nvCxnSpPr>
        <p:spPr>
          <a:xfrm flipH="1">
            <a:off x="3132000" y="1149120"/>
            <a:ext cx="626040" cy="469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2" name="Прямая со стрелкой 11"/>
          <p:cNvCxnSpPr/>
          <p:nvPr/>
        </p:nvCxnSpPr>
        <p:spPr>
          <a:xfrm>
            <a:off x="4657680" y="1149120"/>
            <a:ext cx="707040" cy="469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3" name="Прямая со стрелкой 13"/>
          <p:cNvCxnSpPr/>
          <p:nvPr/>
        </p:nvCxnSpPr>
        <p:spPr>
          <a:xfrm>
            <a:off x="4165200" y="1162080"/>
            <a:ext cx="1080" cy="1836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4" name="Прямая со стрелкой 16"/>
          <p:cNvCxnSpPr>
            <a:stCxn id="425" idx="2"/>
          </p:cNvCxnSpPr>
          <p:nvPr/>
        </p:nvCxnSpPr>
        <p:spPr>
          <a:xfrm>
            <a:off x="4344840" y="1149120"/>
            <a:ext cx="1502640" cy="3678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5" name="Прямая со стрелкой 18"/>
          <p:cNvCxnSpPr/>
          <p:nvPr/>
        </p:nvCxnSpPr>
        <p:spPr>
          <a:xfrm flipH="1">
            <a:off x="2339640" y="1186920"/>
            <a:ext cx="1728000" cy="3761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36" name="Picture 3" descr=""/>
          <p:cNvPicPr/>
          <p:nvPr/>
        </p:nvPicPr>
        <p:blipFill>
          <a:blip r:embed="rId1"/>
          <a:stretch/>
        </p:blipFill>
        <p:spPr>
          <a:xfrm>
            <a:off x="271440" y="-25560"/>
            <a:ext cx="178920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Прямоугольник 4"/>
          <p:cNvSpPr/>
          <p:nvPr/>
        </p:nvSpPr>
        <p:spPr>
          <a:xfrm>
            <a:off x="900000" y="1700280"/>
            <a:ext cx="79200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ностно-смысловые компетен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ебно-познавательны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ммуникативны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циально-трудов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щекультурн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мпетенции личностного самосовершенств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5"/>
          <p:cNvSpPr/>
          <p:nvPr/>
        </p:nvSpPr>
        <p:spPr>
          <a:xfrm>
            <a:off x="2050920" y="476280"/>
            <a:ext cx="5023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евые компетен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5" descr="https://cache3.youla.io/files/images/360_360/5d/68/5d6814b2b261ff71223c46f2.jpg"/>
          <p:cNvPicPr/>
          <p:nvPr/>
        </p:nvPicPr>
        <p:blipFill>
          <a:blip r:embed="rId1"/>
          <a:srcRect l="17583" t="5081" r="19945" b="0"/>
          <a:stretch/>
        </p:blipFill>
        <p:spPr>
          <a:xfrm>
            <a:off x="6084720" y="1557360"/>
            <a:ext cx="230364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Прямоугольник 1"/>
          <p:cNvSpPr/>
          <p:nvPr/>
        </p:nvSpPr>
        <p:spPr>
          <a:xfrm>
            <a:off x="1042920" y="692280"/>
            <a:ext cx="7850160" cy="40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ЕБНО-ПОЗНАВАТЕЛЬНАЯ КОМПЕТ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ение добывать знания непосредственно из реа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ладение приемами действий в нестандартных ситуациях, эвристическими методами решения пробл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ение отличать факты от домыс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пользование вероятностных, статистических методов поз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Прямоугольник 1"/>
          <p:cNvSpPr/>
          <p:nvPr/>
        </p:nvSpPr>
        <p:spPr>
          <a:xfrm>
            <a:off x="539640" y="992160"/>
            <a:ext cx="7632720" cy="29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МУНИКАТИВНАЯ КОМПЕТ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особствовать вступать в общение с целью быть понят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ение выражать свои мысли, выступать перед аудитори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сти дискуссию, аргументировать, доказыва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Прямоугольник 1"/>
          <p:cNvSpPr/>
          <p:nvPr/>
        </p:nvSpPr>
        <p:spPr>
          <a:xfrm>
            <a:off x="684360" y="387360"/>
            <a:ext cx="8135640" cy="34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ЩЕКУЛЬТУРНАЯ КОМПЕТ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знание традиций, национальной культуры, культуры отдельных народ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своение научной картины ми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умение эффективно организовывать свободное врем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владение основами семейных, социальных, общественных яв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Прямоугольник 1"/>
          <p:cNvSpPr/>
          <p:nvPr/>
        </p:nvSpPr>
        <p:spPr>
          <a:xfrm>
            <a:off x="468360" y="203040"/>
            <a:ext cx="8424720" cy="41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ПЕТЕНЦИЯ ЛИЧНОСТНОГО СОВЕРШЕНСТВ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ладение способами деятельности в непрерывном самопознании, самосовершенствова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необходимых современному человеку личностных качест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психологической грамотности, культуры мышления и пове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дорового образа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Прямоугольник 1"/>
          <p:cNvSpPr/>
          <p:nvPr/>
        </p:nvSpPr>
        <p:spPr>
          <a:xfrm>
            <a:off x="755640" y="1042920"/>
            <a:ext cx="777708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ЦИАЛЬНО-ТРУДОВАЯ КОМПЕТ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ладение опытом в сфере гражданской общественной деятельности, в социально-трудовой сфере, в сфере семейных отнош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ладение минимальными навыками, необходимыми для жизни в современном общ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Прямоугольник 1"/>
          <p:cNvSpPr/>
          <p:nvPr/>
        </p:nvSpPr>
        <p:spPr>
          <a:xfrm>
            <a:off x="539640" y="757080"/>
            <a:ext cx="8136000" cy="31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ННОСТНО-СМЫСЛОВАЯ КОМПЕТ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умение видеть и понимать ми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сознание своей роли и предназна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умение выбирать целевые и смысловые установки для своих действий и проступ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умение быть гражданином и патрио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Прямоугольник 1"/>
          <p:cNvSpPr/>
          <p:nvPr/>
        </p:nvSpPr>
        <p:spPr>
          <a:xfrm>
            <a:off x="250920" y="189000"/>
            <a:ext cx="8642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Решение педсове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.Включить  в план работы  классного руководителя мероприятия, формирующие основные ключевые компетен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2.Отслеживать формирование ключевых компетенций с помощь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а) мониторинга личностных качеств – педагог – психолог совместно с классным руководителем  (в конце год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б) наблюдения классного руководите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в) реестра активности обучаю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г) экрана дости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д) таблицы наблюдения, фиксирующей формирование К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Прямоугольник 1"/>
          <p:cNvSpPr/>
          <p:nvPr/>
        </p:nvSpPr>
        <p:spPr>
          <a:xfrm>
            <a:off x="395280" y="836640"/>
            <a:ext cx="8353440" cy="46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овладения ключевыми компетенциями – тот реальный багаж, который в дальнейшей взрослой жизни выпускника будет востребован в первую очередь, и именно от этого багажа зависит не только его дальнейшая жизненная и профессиональная карьера, но и будущее региона, того уголка земли, где он будет жить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2389320" y="835200"/>
            <a:ext cx="6400800" cy="54003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C:\МОЁ\school xtra_clear.gif"/>
          <p:cNvPicPr/>
          <p:nvPr/>
        </p:nvPicPr>
        <p:blipFill>
          <a:blip r:embed="rId2"/>
          <a:stretch/>
        </p:blipFill>
        <p:spPr>
          <a:xfrm>
            <a:off x="-12600" y="282600"/>
            <a:ext cx="2298600" cy="62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Прямоугольник 6"/>
          <p:cNvSpPr/>
          <p:nvPr/>
        </p:nvSpPr>
        <p:spPr>
          <a:xfrm>
            <a:off x="2224080" y="1557360"/>
            <a:ext cx="57103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6" descr="C:\МОЁ\school xtra_clear.gif"/>
          <p:cNvPicPr/>
          <p:nvPr/>
        </p:nvPicPr>
        <p:blipFill>
          <a:blip r:embed="rId1"/>
          <a:stretch/>
        </p:blipFill>
        <p:spPr>
          <a:xfrm>
            <a:off x="-181080" y="122400"/>
            <a:ext cx="16765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оугольник 1"/>
          <p:cNvSpPr/>
          <p:nvPr/>
        </p:nvSpPr>
        <p:spPr>
          <a:xfrm>
            <a:off x="684360" y="907920"/>
            <a:ext cx="7559640" cy="27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компетенц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овокупность смысловых ориентаций, знаний, умений, навы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пыта деятельности ученика по отношению к определенному кругу объектов реальной действительности, необходимых для осуществления личностно и социально значимой продуктивной деятельност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В.Хуторс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6" descr="https://ds05.infourok.ru/uploads/ex/05db/00066e7a-435aa93e/hello_html_1a1a669f.jpg"/>
          <p:cNvPicPr/>
          <p:nvPr/>
        </p:nvPicPr>
        <p:blipFill>
          <a:blip r:embed="rId1"/>
          <a:stretch/>
        </p:blipFill>
        <p:spPr>
          <a:xfrm>
            <a:off x="2124000" y="3724200"/>
            <a:ext cx="405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Прямоугольник 1"/>
          <p:cNvSpPr/>
          <p:nvPr/>
        </p:nvSpPr>
        <p:spPr>
          <a:xfrm>
            <a:off x="1284120" y="476280"/>
            <a:ext cx="7535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оспитание, в отличие от обучения, обращено не только к разуму, но и к душе ребенк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В. Зенько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оспитание призвано ответить на сущностные вопросы жизни человека – о ее смысле и цел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И. Пиро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оспитание заботиться не об учебном плане, а о плане жизни учащихс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Н. Вентц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"/>
          <p:cNvSpPr/>
          <p:nvPr/>
        </p:nvSpPr>
        <p:spPr>
          <a:xfrm>
            <a:off x="324000" y="3860640"/>
            <a:ext cx="691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оспитание помогает перестроить жизнь в целом, организует социальный опыт личности, учит, как организовать среду своей жизн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Т. Шац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оспитание помогает обрести идеалы, убеждения,  формирует духовный мир личности»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А. Сухомли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7" descr="https://cdn2.static1-sima-land.com/items/1078399/0/700-nw.jpg"/>
          <p:cNvPicPr/>
          <p:nvPr/>
        </p:nvPicPr>
        <p:blipFill>
          <a:blip r:embed="rId1"/>
          <a:srcRect l="26879" t="0" r="31073" b="0"/>
          <a:stretch/>
        </p:blipFill>
        <p:spPr>
          <a:xfrm>
            <a:off x="179280" y="79200"/>
            <a:ext cx="1339920" cy="31863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9" descr="https://i.pinimg.com/originals/b6/0a/b3/b60ab3fa28893ef0d3a31fd1b763bc44.png"/>
          <p:cNvPicPr/>
          <p:nvPr/>
        </p:nvPicPr>
        <p:blipFill>
          <a:blip r:embed="rId2"/>
          <a:stretch/>
        </p:blipFill>
        <p:spPr>
          <a:xfrm>
            <a:off x="7524720" y="3954600"/>
            <a:ext cx="129528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Прямоугольник 1"/>
          <p:cNvSpPr/>
          <p:nvPr/>
        </p:nvSpPr>
        <p:spPr>
          <a:xfrm>
            <a:off x="2830320" y="620640"/>
            <a:ext cx="3483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НИ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8" descr="http://sormgimn.narod.ru/2018-2019/cartinki/136549-800x800.jpg"/>
          <p:cNvPicPr/>
          <p:nvPr/>
        </p:nvPicPr>
        <p:blipFill>
          <a:blip r:embed="rId1"/>
          <a:srcRect l="30379" t="0" r="25637" b="-2386"/>
          <a:stretch/>
        </p:blipFill>
        <p:spPr>
          <a:xfrm>
            <a:off x="826920" y="906480"/>
            <a:ext cx="2541600" cy="59166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0" descr="https://img2.freepng.ru/20171216/53f/question-mark-png-5a352b08a39149.40724899151343386467.jpg"/>
          <p:cNvPicPr/>
          <p:nvPr/>
        </p:nvPicPr>
        <p:blipFill>
          <a:blip r:embed="rId2"/>
          <a:stretch/>
        </p:blipFill>
        <p:spPr>
          <a:xfrm>
            <a:off x="4067280" y="1179360"/>
            <a:ext cx="3570120" cy="4680000"/>
          </a:xfrm>
          <a:prstGeom prst="rect">
            <a:avLst/>
          </a:prstGeom>
          <a:ln w="0">
            <a:noFill/>
          </a:ln>
        </p:spPr>
      </p:pic>
      <p:sp>
        <p:nvSpPr>
          <p:cNvPr id="414" name="Овал 3"/>
          <p:cNvSpPr/>
          <p:nvPr/>
        </p:nvSpPr>
        <p:spPr>
          <a:xfrm>
            <a:off x="5396040" y="4649760"/>
            <a:ext cx="914400" cy="91440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Прямоугольник 1"/>
          <p:cNvSpPr/>
          <p:nvPr/>
        </p:nvSpPr>
        <p:spPr>
          <a:xfrm>
            <a:off x="539640" y="1484280"/>
            <a:ext cx="828036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о успевающий ученик, окончив школу, оказывается в жизни  неуспешным человек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ой или серебряный медалист, отлично знающий предметы в рамках школьной программы, не выдерживает конкурсный экзамен в избранный вуз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дой специалист – выпускник института – слишком долго адаптируется на рабочем месте, хотя объём профессиональных знаний и умений, полученных им в институте, вполне достаточе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ритический момент выясняется, что полученные в школе знания и умения не подходят к жизненной ситуации, которую нужно срочно разреши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вляющее большинство знаний и умений, полученных в школе, оказываются вообще не востребованными в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2"/>
          <p:cNvSpPr/>
          <p:nvPr/>
        </p:nvSpPr>
        <p:spPr>
          <a:xfrm>
            <a:off x="1236240" y="476280"/>
            <a:ext cx="54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 чем сталкиваемся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Прямоугольник 1"/>
          <p:cNvSpPr/>
          <p:nvPr/>
        </p:nvSpPr>
        <p:spPr>
          <a:xfrm>
            <a:off x="1295280" y="549360"/>
            <a:ext cx="7848720" cy="53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ссарий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тный человек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формированная личность, способная брать на себя ответственность в различных ситуациях, готовая расширять границы своих знаний и совершенствовать 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тность -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образования, выражающийся в овладении учащимся определенным набором способов деятельности. Латинское competentia в переводе означает «круг вопросов, в которых человек хорошо осведомлен, обладает знаниями и опытом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ция 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окупность взаимосвязанных качеств личности (знаний, умений, навыков, способов деятельности), задаваемых по определённому кругу предметов и процессов и необходимых, чтобы качественно продуктивно действовать по отношению к ним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5" descr="http://ds34.detkin-club.ru/images/custom_5/_110036339_5f53e216dfac3.jpg"/>
          <p:cNvPicPr/>
          <p:nvPr/>
        </p:nvPicPr>
        <p:blipFill>
          <a:blip r:embed="rId1"/>
          <a:stretch/>
        </p:blipFill>
        <p:spPr>
          <a:xfrm>
            <a:off x="0" y="115920"/>
            <a:ext cx="240048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Прямоугольник 1"/>
          <p:cNvSpPr/>
          <p:nvPr/>
        </p:nvSpPr>
        <p:spPr>
          <a:xfrm>
            <a:off x="826920" y="1268280"/>
            <a:ext cx="820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ции классифицируют следующим образ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овые компетен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евые компетен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 компете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285560" cy="16290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317520" y="4797360"/>
            <a:ext cx="2247840" cy="19321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" descr=""/>
          <p:cNvPicPr/>
          <p:nvPr/>
        </p:nvPicPr>
        <p:blipFill>
          <a:blip r:embed="rId3"/>
          <a:stretch/>
        </p:blipFill>
        <p:spPr>
          <a:xfrm>
            <a:off x="6659640" y="4221000"/>
            <a:ext cx="198288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Прямоугольник 1"/>
          <p:cNvSpPr/>
          <p:nvPr/>
        </p:nvSpPr>
        <p:spPr>
          <a:xfrm>
            <a:off x="826920" y="476280"/>
            <a:ext cx="763272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евыми словами в характеристике компетенций являются сло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ать, думать, сотрудничать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иматься за дело, адаптироваться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250920" y="4149720"/>
            <a:ext cx="24541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3:59:46Z</dcterms:created>
  <dc:creator>Сарахман Ирина Дмитриевна</dc:creator>
  <dc:description/>
  <dc:language>en-US</dc:language>
  <cp:lastModifiedBy>Комп</cp:lastModifiedBy>
  <dcterms:modified xsi:type="dcterms:W3CDTF">2021-02-11T05:31:07Z</dcterms:modified>
  <cp:revision>277</cp:revision>
  <dc:subject/>
  <dc:title>Формирование ключевых компетенций в системе воспитательной работы в школе, классе</dc:title>
</cp:coreProperties>
</file>