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13A3-FE9E-432D-8CF9-8A894EF2A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161-97BF-49E2-9A6D-8B0D57C095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7600" y="87804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CB3-DD35-4EFA-8953-41CD038AC7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17600" y="87804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94A-D097-495F-80C7-EFF052029C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8B3-F3D1-4451-9A94-C80367C6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8DD-CC96-4004-BA81-D7ADA35B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221-CB99-4048-B4B9-5499CF5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35B-C395-402E-81EA-BA6C3397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3E0-1BD2-467E-9BD1-5C851B3B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8AB-8819-439B-9248-5C245C8F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0EA-4AAE-4E89-AFE7-5739B607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AAB-FB9F-45EF-8A7C-69426037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05D-20EA-4EA3-8ACC-23084F38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AC7-6C93-4A90-AEBA-3DB26CF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E06-7D6B-4938-9DBA-69D8892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254-8F58-4669-A9B5-49323614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6BA-84BD-444A-9E97-531C278B8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Комп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есня Дорога добра.mp3" descr=""/>
          <p:cNvPicPr/>
          <p:nvPr/>
        </p:nvPicPr>
        <p:blipFill>
          <a:blip r:embed="rId2"/>
          <a:stretch/>
        </p:blipFill>
        <p:spPr>
          <a:xfrm>
            <a:off x="838512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5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188640"/>
            <a:ext cx="842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ТЧА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6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это короткая история, в которой заключена мудрость наших предков, поучительный рассказ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49880" cy="48038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4290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0920" y="-50400"/>
            <a:ext cx="88930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Милосерд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оболие, сочувствие, любовь на деле, готовность делать добро всякому, милостливость, мягкосердост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 Д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Милосерд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из сострадания оказать помощь тому, кто в ней нужд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олковый словарь русского языка Уш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Милосерд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товность помочь кому-нибудь, простить кого-нибудь из сострадания, человеколю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олковый словарь Ожег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Сочув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Состр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Сопер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абка2"/>
          <p:cNvPicPr/>
          <p:nvPr/>
        </p:nvPicPr>
        <p:blipFill>
          <a:blip r:embed="rId1"/>
          <a:stretch/>
        </p:blipFill>
        <p:spPr>
          <a:xfrm>
            <a:off x="1785960" y="2714760"/>
            <a:ext cx="614376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илостын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встреча двух ру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рука выражает просьбу «Христа рад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ая рука подаёт «Во имя Христ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сторик В.О.Ключев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ука"/>
          <p:cNvPicPr/>
          <p:nvPr/>
        </p:nvPicPr>
        <p:blipFill>
          <a:blip r:embed="rId1"/>
          <a:stretch/>
        </p:blipFill>
        <p:spPr>
          <a:xfrm>
            <a:off x="4857840" y="1500120"/>
            <a:ext cx="37148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Таня\Desktop\Новая папка\zXyq38a60hw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07280" cy="28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удьте внимательными, вдруг кому-то нужна ваша помощь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Не ждите, когда вас попросят, а помогите нуждающимс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бабка"/>
          <p:cNvPicPr/>
          <p:nvPr/>
        </p:nvPicPr>
        <p:blipFill>
          <a:blip r:embed="rId1"/>
          <a:stretch/>
        </p:blipFill>
        <p:spPr>
          <a:xfrm>
            <a:off x="2500200" y="3214800"/>
            <a:ext cx="442908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Комп\Desktop\png-clipart-illustration-hug-graphics-child-child-love-child.png"/>
          <p:cNvPicPr/>
          <p:nvPr/>
        </p:nvPicPr>
        <p:blipFill>
          <a:blip r:embed="rId1"/>
          <a:stretch/>
        </p:blipFill>
        <p:spPr>
          <a:xfrm>
            <a:off x="0" y="1413000"/>
            <a:ext cx="8893080" cy="5445000"/>
          </a:xfrm>
          <a:prstGeom prst="rect">
            <a:avLst/>
          </a:prstGeom>
          <a:ln w="0">
            <a:noFill/>
          </a:ln>
        </p:spPr>
      </p:pic>
      <p:pic>
        <p:nvPicPr>
          <p:cNvPr id="86" name="минус  Дорогою добра.mp3" descr=""/>
          <p:cNvPicPr/>
          <p:nvPr/>
        </p:nvPicPr>
        <p:blipFill>
          <a:blip r:embed="rId2"/>
          <a:stretch/>
        </p:blipFill>
        <p:spPr>
          <a:xfrm>
            <a:off x="7956720" y="6229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2704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Таня\Desktop\Новая папка\5447365416_f4fbcdf04d_z1.jpg"/>
          <p:cNvPicPr/>
          <p:nvPr/>
        </p:nvPicPr>
        <p:blipFill>
          <a:blip r:embed="rId3"/>
          <a:stretch/>
        </p:blipFill>
        <p:spPr>
          <a:xfrm>
            <a:off x="285840" y="285840"/>
            <a:ext cx="8572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Таня\Desktop\Новая папка\ae23846a8806t.jpg"/>
          <p:cNvPicPr/>
          <p:nvPr/>
        </p:nvPicPr>
        <p:blipFill>
          <a:blip r:embed="rId3"/>
          <a:stretch/>
        </p:blipFill>
        <p:spPr>
          <a:xfrm>
            <a:off x="428760" y="28584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Комп\Desktop\images.jpg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Таня\Desktop\Новая папка\kotenok.jpg"/>
          <p:cNvPicPr/>
          <p:nvPr/>
        </p:nvPicPr>
        <p:blipFill>
          <a:blip r:embed="rId3"/>
          <a:stretch/>
        </p:blipFill>
        <p:spPr>
          <a:xfrm>
            <a:off x="357120" y="35712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alligraph421 BT"/>
              </a:rPr>
              <a:t>Милосердие – закон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руки"/>
          <p:cNvPicPr/>
          <p:nvPr/>
        </p:nvPicPr>
        <p:blipFill>
          <a:blip r:embed="rId1"/>
          <a:stretch/>
        </p:blipFill>
        <p:spPr>
          <a:xfrm>
            <a:off x="1785960" y="2421000"/>
            <a:ext cx="578628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85840" y="-3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в чём больше всего нуждается каждый из следу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ой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та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ют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женный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ешен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щий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л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нившийся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янии, про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уч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лушать ,поделиться, порадоваться, уступить, простить, протянуть ладонь , утеш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 перечисленных слов выберите те, которые могут рассказать о милосердном челове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сердечный, доброжелательный, щедрый, сострадательный, благодушный, терпелив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Таня\Desktop\Новая папка\P7130436.jpg"/>
          <p:cNvPicPr/>
          <p:nvPr/>
        </p:nvPicPr>
        <p:blipFill>
          <a:blip r:embed="rId3"/>
          <a:stretch/>
        </p:blipFill>
        <p:spPr>
          <a:xfrm>
            <a:off x="428760" y="35712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1225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44956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живать за боль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живать за младш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рыстно предлагать свою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583160" y="1197000"/>
            <a:ext cx="4189320" cy="43768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4397400" y="5732640"/>
            <a:ext cx="45608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цениваете такое отношение к милосердию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357200"/>
            <a:ext cx="84297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дать определение «милосердию», «состраданию», «сочувствию», «сопережив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приводить примеры милосердных поступ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узнать, как научиться милосерд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28840"/>
            <a:ext cx="840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рисовать  образ милосерди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йти  мудрые мысли, высказывания о милосердии и записать  в тетрад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аписать мини-сочинение на тему «Почему милосердие мило сердцу?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песня Дорога добра.mp3" descr=""/>
          <p:cNvPicPr/>
          <p:nvPr/>
        </p:nvPicPr>
        <p:blipFill>
          <a:blip r:embed="rId2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238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Комп\Desktop\Без названия (2).jpg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Комп\Desktop\images (1).jpg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Комп\Desktop\Без названия.jpg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Комп\Desktop\Без названия (3)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alligraph421 BT"/>
              </a:rPr>
              <a:t>Милосердие – закон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руки"/>
          <p:cNvPicPr/>
          <p:nvPr/>
        </p:nvPicPr>
        <p:blipFill>
          <a:blip r:embed="rId1"/>
          <a:stretch/>
        </p:blipFill>
        <p:spPr>
          <a:xfrm>
            <a:off x="1785960" y="2421000"/>
            <a:ext cx="578628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пословицы подходят к сказ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155736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</a:t>
            </a: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оброе дело вовек не забуд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лосердие – осознанная ист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р не без добры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357200"/>
            <a:ext cx="84297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дать определение «милосердию», «состраданию», «сочувствию», «сопережив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приводить примеры милосердных поступ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узнать, как научиться милосерд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6:28:16Z</dcterms:created>
  <dc:creator>Microsoft Роwer point</dc:creator>
  <dc:description/>
  <dc:language>en-US</dc:language>
  <cp:lastModifiedBy>Ученик</cp:lastModifiedBy>
  <dcterms:modified xsi:type="dcterms:W3CDTF">2022-02-01T02:21:56Z</dcterms:modified>
  <cp:revision>35</cp:revision>
  <dc:subject/>
  <dc:title>Милосердие и сострадание</dc:title>
</cp:coreProperties>
</file>