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0AE-6117-41E3-B442-89EFFBE5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D5E-4574-45BB-8834-8027123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A41-45A5-40DB-96B9-61BC5DCA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50F-2828-42C0-90E6-65CCAB61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4B05-ECB7-4538-A6F2-B853DB17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9D7B-6086-4FA5-971C-99660A13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0EE5-52EE-406B-B824-8C8DEEE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98D-2946-4CBE-B17F-21C84695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5E7-1E26-4662-8A6E-BD52780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D202-6735-4023-8105-1F46470E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47E-83EE-48BF-90F8-EED6E07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138-42CA-4DB5-91B5-DCD97271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D3D-B816-4C97-88F2-607FF7E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EC2D-4E64-4816-9801-68893FE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07AA-8E26-41A3-9404-104431C2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FAA-5470-41A7-A8CC-986EED87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C1BE-38F5-4600-9C18-77DA31FB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2A3B-78B6-4C71-9E61-B9C9CDA0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EE3C-EC6B-4986-8569-763ECFE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9A4E-9D48-46E5-9757-AFE6698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22F1-C760-453E-A4EE-9C4C5B10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860E-438C-48DA-A63F-871039D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373-8745-4D71-B347-1503C7B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64CD-8301-4D54-98D2-354C9364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3B69-7AF5-4074-A58F-D735FBC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D048-288A-4CF3-BD86-DADFCAD4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2BD8-D424-43EC-8900-D2F08AF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7268-ECB4-491F-87CF-ADCDBBD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EEEC-CADF-458D-9DEC-6D83A44A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2F4A-FE0E-4635-9C25-EF3F770A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C081-E8EC-4CB7-B69E-85A2E316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E011-A07A-4B86-BB8A-3916ED1B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CC26-F71D-4C3F-AC61-246F02EE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FE1-EC44-4987-A6F3-733762DC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F4BE-6E9F-4F93-B61D-562F51B8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96B8-6BE1-41E1-8D9A-4D85459D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FE53-4AC8-422D-A76B-7BA9E0AC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B08E-4AFC-433A-B9B0-02AC113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28F1-65B5-40C5-8626-4611639A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7F96-DDB8-4A91-A877-CBB10A3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DA08-0A7E-4712-B0DA-2376566E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D0C9B-A00A-468E-9B40-9169C07E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2625-011D-4915-BF7D-BEFF04D1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CBEB-937F-40D0-9870-6FC29B9C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A93-FC0D-48A0-8D98-2BD3B26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DDB5-6953-4652-94C6-5DA883F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F10C-3338-4FB5-B1D9-33E0700D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5343-C43C-4CB8-900B-D988495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5A27D-35C8-47FA-BB02-43DA1799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EAF6-F576-419C-BC75-9D77915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8665-32BC-4C85-BCB9-9A151F7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95E3-21BE-4FA0-8EB4-A4AC4F3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1ADD-8307-4F7A-8C45-F74A6CD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8531-8D88-410A-9A4A-29EA302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7575-B9BD-4972-B292-F701CF2C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C48-82B1-45E3-8318-1A8262CE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86A2-6C3C-4992-8E15-1056B7F3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051BE-EC26-4AE1-9984-35C27BED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E4627-87D2-4DAD-BFF8-6D842C0A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701A1-85B5-4317-BF13-9FC5E94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18A3B-E8AF-4803-8198-3EC46654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AB1C5-CD19-4C6C-8EDB-5577446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68EE0-FCF6-49B2-8F0D-C844D751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DACFF-5148-45D0-B832-B84D6AE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E6BD5-C29D-4695-945E-F6576B5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63B4D-2E19-4BBB-99BC-1DC0467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35-45FF-4875-9401-E015D07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88F93-E78F-4C93-9E52-4A79A2A2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DAC4F-6534-40F1-8491-AD7A8C1C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1C811-48BF-495B-ABAC-D505719E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AA9D-D548-4617-894B-9E296AAB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C66A2-D763-4B72-B8B4-9C3E358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11DF-FAED-4099-BBE3-22FF671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7D01D-DEF2-4EBF-AEA0-947FDC56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ACAA7-BF30-43E9-A104-69A19054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AEF0F-FCC3-486E-AC9D-94C47833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5299-6D7D-4F38-A006-D356D769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3BD-DF2D-4D8F-8210-F1F5AB1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EA4D-4219-478C-A11E-D53E749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043E-B14C-4F08-8419-2CC187A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1281A-036F-43AF-A37F-CFCC657B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72447-A859-4C5B-9456-A4ACA3EC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64F3-E6CB-41DB-BDDA-7AE4BCBE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B31-F629-4740-8A29-9D6B4C3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49C-3E8B-42EB-81B4-D7B64272059C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CDA9-8D2C-4569-BC39-882926CEEE29}" type="slidenum">
              <a:rPr b="0" lang="ru-RU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56EB-F81B-4E2A-9444-75955F86F165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A89-BE6C-410C-83A4-5AFBE15896F4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C28-D2ED-42D6-8170-9DECE33979B5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F13E-EF46-42FC-AFB3-9EE0BC613ADD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40A-6DF3-4477-ACE7-347AA7FF717F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26200" y="0"/>
            <a:ext cx="2006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2" name="TextBox 3"/>
          <p:cNvGrpSpPr/>
          <p:nvPr/>
        </p:nvGrpSpPr>
        <p:grpSpPr>
          <a:xfrm>
            <a:off x="3200400" y="914400"/>
            <a:ext cx="3919680" cy="1962000"/>
            <a:chOff x="3200400" y="914400"/>
            <a:chExt cx="3919680" cy="1962000"/>
          </a:xfrm>
        </p:grpSpPr>
        <p:pic>
          <p:nvPicPr>
            <p:cNvPr id="333" name="TextBox 3" descr=""/>
            <p:cNvPicPr/>
            <p:nvPr/>
          </p:nvPicPr>
          <p:blipFill>
            <a:blip r:embed="rId2"/>
            <a:stretch/>
          </p:blipFill>
          <p:spPr>
            <a:xfrm>
              <a:off x="3200400" y="914400"/>
              <a:ext cx="391968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214800" y="928800"/>
              <a:ext cx="3890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entury Gothic"/>
                </a:rPr>
                <a:t>Мониторинг ключевых компетенц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4"/>
          <p:cNvSpPr/>
          <p:nvPr/>
        </p:nvSpPr>
        <p:spPr>
          <a:xfrm>
            <a:off x="1928880" y="4572000"/>
            <a:ext cx="51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урочкина Светл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читель, классный руководитель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3430440" y="609300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21 ноября 2019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1714680" y="428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ОУ Новоуспе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7126200" y="0"/>
            <a:ext cx="200664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7"/>
          <p:cNvSpPr/>
          <p:nvPr/>
        </p:nvSpPr>
        <p:spPr>
          <a:xfrm>
            <a:off x="1357200" y="1428840"/>
            <a:ext cx="514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8 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2018-2019 уч го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214200" y="0"/>
          <a:ext cx="8715600" cy="6429240"/>
        </p:xfrm>
        <a:graphic>
          <a:graphicData uri="http://schemas.openxmlformats.org/drawingml/2006/table">
            <a:tbl>
              <a:tblPr/>
              <a:tblGrid>
                <a:gridCol w="295560"/>
                <a:gridCol w="990360"/>
                <a:gridCol w="539640"/>
                <a:gridCol w="382680"/>
                <a:gridCol w="384120"/>
                <a:gridCol w="358920"/>
                <a:gridCol w="406440"/>
                <a:gridCol w="811080"/>
                <a:gridCol w="544680"/>
                <a:gridCol w="557280"/>
                <a:gridCol w="608040"/>
                <a:gridCol w="541080"/>
                <a:gridCol w="544680"/>
                <a:gridCol w="603000"/>
                <a:gridCol w="382680"/>
                <a:gridCol w="382680"/>
                <a:gridCol w="382680"/>
              </a:tblGrid>
              <a:tr h="3808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е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мит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л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в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gridSpan="2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й результ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gridSpan="17"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7126200" y="0"/>
            <a:ext cx="20066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152280" y="81432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entury Gothic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F:\ПРОЕКТ\s12054.gif"/>
          <p:cNvPicPr/>
          <p:nvPr/>
        </p:nvPicPr>
        <p:blipFill>
          <a:blip r:embed="rId2"/>
          <a:stretch/>
        </p:blipFill>
        <p:spPr>
          <a:xfrm>
            <a:off x="152280" y="185760"/>
            <a:ext cx="1123920" cy="12571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1214280" y="428760"/>
            <a:ext cx="6072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пециально организованное, целевое наблюдение, контроль и диагностика состояния воспитательной деятельности на базе систематизации существующих источников информации, а также специально организованных исследований и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1187280" y="549360"/>
            <a:ext cx="7956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уровня монитор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ервый уровень: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индивидуальный, персо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торой уровень: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внутришко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1295280" y="1197000"/>
            <a:ext cx="75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Цель монитор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лучение объективной и достоверной информации о состоянии воспитательной деятельности на уровне школы для управления качеством восп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2"/>
          <p:cNvSpPr/>
          <p:nvPr/>
        </p:nvSpPr>
        <p:spPr>
          <a:xfrm>
            <a:off x="1476360" y="76500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нное отслеживание состояния воспитательной деятельности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своевременное выявление изменений, происходящих в воспитательной деятельности, и факторов, вызывающих 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предупреждение негативных тенденций в организации образо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существление краткосрочного прогнозирования развития важнейших процессов на уровне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ценка эффективности и полноты реализации системы воспитательной деятельности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1352520" y="333360"/>
            <a:ext cx="7632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1538280" y="560520"/>
            <a:ext cx="763272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мониторинг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систем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ческий коллектив и коллектив педаг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 ученического само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ополнительно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эстетическая ср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1285920" y="1428840"/>
            <a:ext cx="521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7 клас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Gothic"/>
              </a:rPr>
              <a:t>2017-2018 уч го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7126200" y="0"/>
            <a:ext cx="200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0" y="-6480"/>
          <a:ext cx="8786880" cy="6864480"/>
        </p:xfrm>
        <a:graphic>
          <a:graphicData uri="http://schemas.openxmlformats.org/drawingml/2006/table">
            <a:tbl>
              <a:tblPr/>
              <a:tblGrid>
                <a:gridCol w="298440"/>
                <a:gridCol w="1548000"/>
                <a:gridCol w="368280"/>
                <a:gridCol w="295200"/>
                <a:gridCol w="444240"/>
                <a:gridCol w="295560"/>
                <a:gridCol w="368280"/>
                <a:gridCol w="585720"/>
                <a:gridCol w="547560"/>
                <a:gridCol w="561960"/>
                <a:gridCol w="612720"/>
                <a:gridCol w="546120"/>
                <a:gridCol w="549360"/>
                <a:gridCol w="608040"/>
                <a:gridCol w="385920"/>
                <a:gridCol w="385560"/>
                <a:gridCol w="385920"/>
              </a:tblGrid>
              <a:tr h="505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е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митр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ста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л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в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 gridSpan="17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й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555</dc:creator>
  <dc:description/>
  <dc:language>en-US</dc:language>
  <cp:lastModifiedBy>555</cp:lastModifiedBy>
  <dcterms:modified xsi:type="dcterms:W3CDTF">2019-11-21T00:25:08Z</dcterms:modified>
  <cp:revision>60</cp:revision>
  <dc:subject/>
  <dc:title>Презентация PowerPoint</dc:title>
</cp:coreProperties>
</file>